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E1CD-8E75-4195-9B1F-021F1180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7FFF-7E38-40B5-A62C-38D533C4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A433-461C-4F80-B150-5E4AA4DB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FDDB-3D04-44B7-BF47-C12AF62A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A1C0-7C60-4351-BE9F-712CCFC2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D818-5A7A-49BB-9848-2FA09D6D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2736-61A7-450E-87FC-9916321A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A2E2-4DFC-408F-9C33-B1F5173A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0D96-5CB2-40F1-88CF-D1820AAE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ED1-D581-41A2-B317-FAB0841A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8056-F820-4201-A760-90E7BC8E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A526-6054-428D-8854-99636A47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de-C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7C2159C-BE24-4439-BFDC-EFF4D29CF9B4}" type="slidenum">
              <a:rPr b="0" lang="de-C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5160" cy="80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2286000"/>
            <a:ext cx="7770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7000" spc="-1" strike="noStrike">
                <a:solidFill>
                  <a:srgbClr val="000000"/>
                </a:solidFill>
                <a:latin typeface="Arial Black"/>
              </a:rPr>
              <a:t>Studer 980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3230640"/>
            <a:ext cx="61722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CH" sz="5000" spc="-1" strike="noStrike">
                <a:solidFill>
                  <a:srgbClr val="ff0033"/>
                </a:solidFill>
                <a:latin typeface="Times New Roman"/>
              </a:rPr>
              <a:t>Digitally Controlled Analog Conso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80" y="2444760"/>
            <a:ext cx="672840" cy="673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76240" y="1981080"/>
            <a:ext cx="5594400" cy="4118040"/>
            <a:chOff x="1776240" y="1981080"/>
            <a:chExt cx="5594400" cy="411804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776240" y="1981080"/>
              <a:ext cx="5594400" cy="41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868400" y="2027160"/>
              <a:ext cx="5397480" cy="40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685800" y="166680"/>
            <a:ext cx="49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00"/>
                </a:solidFill>
                <a:latin typeface="Arial Black"/>
              </a:rPr>
              <a:t>Studer 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609480" y="1117440"/>
            <a:ext cx="5986440" cy="1695600"/>
            <a:chOff x="609480" y="1117440"/>
            <a:chExt cx="5986440" cy="1695600"/>
          </a:xfrm>
        </p:grpSpPr>
        <p:graphicFrame>
          <p:nvGraphicFramePr>
            <p:cNvPr id="50" name=""/>
            <p:cNvGraphicFramePr/>
            <p:nvPr/>
          </p:nvGraphicFramePr>
          <p:xfrm>
            <a:off x="4375080" y="1866960"/>
            <a:ext cx="1314360" cy="946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75080" y="1866960"/>
                      <a:ext cx="1314360" cy="94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609480" y="1117440"/>
              <a:ext cx="5986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0033"/>
                </a:buClr>
                <a:buSzPct val="8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CH" sz="2800" spc="-1" strike="noStrike">
                  <a:solidFill>
                    <a:srgbClr val="000000"/>
                  </a:solidFill>
                  <a:latin typeface="Times New Roman"/>
                </a:rPr>
                <a:t>Live transmission and recor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3" name=""/>
            <p:cNvGraphicFramePr/>
            <p:nvPr/>
          </p:nvGraphicFramePr>
          <p:xfrm>
            <a:off x="2451240" y="1752480"/>
            <a:ext cx="1104840" cy="1060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51240" y="1752480"/>
                      <a:ext cx="1104840" cy="106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5" name=""/>
          <p:cNvSpPr/>
          <p:nvPr/>
        </p:nvSpPr>
        <p:spPr>
          <a:xfrm>
            <a:off x="628560" y="2971800"/>
            <a:ext cx="437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Music Drama Pro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90400" y="3543480"/>
            <a:ext cx="4660920" cy="958680"/>
            <a:chOff x="590400" y="3543480"/>
            <a:chExt cx="4660920" cy="958680"/>
          </a:xfrm>
        </p:grpSpPr>
        <p:sp>
          <p:nvSpPr>
            <p:cNvPr id="57" name=""/>
            <p:cNvSpPr/>
            <p:nvPr/>
          </p:nvSpPr>
          <p:spPr>
            <a:xfrm>
              <a:off x="590400" y="3543480"/>
              <a:ext cx="23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0033"/>
                </a:buClr>
                <a:buSzPct val="8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CH" sz="2800" spc="-1" strike="noStrike">
                  <a:solidFill>
                    <a:srgbClr val="000000"/>
                  </a:solidFill>
                  <a:latin typeface="Times New Roman"/>
                </a:rPr>
                <a:t>OB Va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8" name=""/>
            <p:cNvGraphicFramePr/>
            <p:nvPr/>
          </p:nvGraphicFramePr>
          <p:xfrm>
            <a:off x="3949560" y="3714840"/>
            <a:ext cx="1301760" cy="787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49560" y="3714840"/>
                      <a:ext cx="13017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" name=""/>
          <p:cNvSpPr/>
          <p:nvPr/>
        </p:nvSpPr>
        <p:spPr>
          <a:xfrm>
            <a:off x="628560" y="4586400"/>
            <a:ext cx="567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Multiformat Surround Produ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8560" y="5157720"/>
            <a:ext cx="4565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Theatres and Opera 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767560"/>
            <a:ext cx="311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Post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66680"/>
            <a:ext cx="49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00"/>
                </a:solidFill>
                <a:latin typeface="Arial Black"/>
              </a:rPr>
              <a:t>Studer 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61760" y="1409400"/>
            <a:ext cx="693396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Digital Controlled Analog Cons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Highest security stand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Extremly customer adap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more than 200 special mo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Broadcast and Filmversions for Surround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Static and dynamic auto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Dynamic Automation with Uptown Auto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66680"/>
            <a:ext cx="49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00"/>
                </a:solidFill>
                <a:latin typeface="Arial Black"/>
              </a:rPr>
              <a:t>Studer 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Snapshot and Sequencing auto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Memory card for personal Snapshots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Programmable Processor in each channel</a:t>
            </a:r>
            <a:br>
              <a:rPr sz="2800"/>
            </a:b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for highest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Multilevel data security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Dual Power supply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Multichannel extension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8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Times New Roman"/>
              </a:rPr>
              <a:t>Dynamic units available in each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66680"/>
            <a:ext cx="49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00"/>
                </a:solidFill>
                <a:latin typeface="Arial Black"/>
              </a:rPr>
              <a:t>Studer 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09320" y="781200"/>
            <a:ext cx="561996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CH" sz="5000" spc="-1" strike="noStrike">
                <a:solidFill>
                  <a:srgbClr val="ff0033"/>
                </a:solidFill>
                <a:latin typeface="Times New Roman"/>
              </a:rPr>
              <a:t>Multiformat Monit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1104840"/>
            <a:ext cx="1727280" cy="53085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71520" y="1828800"/>
            <a:ext cx="64767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Times New Roman"/>
              </a:rPr>
              <a:t>Dolby Surround produ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Times New Roman"/>
              </a:rPr>
              <a:t>Two 6 channel Decoder / Encoder systems usa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Times New Roman"/>
              </a:rPr>
              <a:t>Monitoring possibility before </a:t>
            </a:r>
            <a:br>
              <a:rPr sz="2100"/>
            </a:br>
            <a:r>
              <a:rPr b="0" lang="de-CH" sz="2100" spc="-1" strike="noStrike">
                <a:solidFill>
                  <a:srgbClr val="000000"/>
                </a:solidFill>
                <a:latin typeface="Times New Roman"/>
              </a:rPr>
              <a:t>and after coding / deco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Times New Roman"/>
              </a:rPr>
              <a:t>Surround panning in each </a:t>
            </a:r>
            <a:br>
              <a:rPr sz="2100"/>
            </a:br>
            <a:r>
              <a:rPr b="0" lang="de-CH" sz="2100" spc="-1" strike="noStrike">
                <a:solidFill>
                  <a:srgbClr val="000000"/>
                </a:solidFill>
                <a:latin typeface="Times New Roman"/>
              </a:rPr>
              <a:t>Input Modu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Times New Roman"/>
              </a:rPr>
              <a:t>Signal path visually display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CH" sz="2100" spc="-1" strike="noStrike">
                <a:solidFill>
                  <a:srgbClr val="000000"/>
                </a:solidFill>
                <a:latin typeface="Times New Roman"/>
              </a:rPr>
              <a:t>Motorized joystick pann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6680"/>
            <a:ext cx="49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00"/>
                </a:solidFill>
                <a:latin typeface="Arial Black"/>
              </a:rPr>
              <a:t>Studer 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160960" y="5257800"/>
            <a:ext cx="1766880" cy="1611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4T15:32:38Z</dcterms:created>
  <dc:creator>Studer Informatik</dc:creator>
  <dc:description/>
  <dc:language>en-US</dc:language>
  <cp:lastModifiedBy>robis</cp:lastModifiedBy>
  <cp:lastPrinted>1998-02-18T14:35:56Z</cp:lastPrinted>
  <dcterms:modified xsi:type="dcterms:W3CDTF">2006-01-31T13:57:53Z</dcterms:modified>
  <cp:revision>38</cp:revision>
  <dc:subject/>
  <dc:title>Kein Folientitel</dc:title>
</cp:coreProperties>
</file>