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F28-FFEA-442E-B9F9-F1BFFC5D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E89-3528-4099-86AA-65A8D816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6F1-5DD3-46CA-88B3-59DFAD1A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9C2-F85F-4E7C-BEEF-240C6FBC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4E4-7031-44E5-A9B3-CFBC224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DBA-39E3-43F8-98B9-74CFDA1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7CB-7AC6-40B3-A112-96BA2B5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8BD-5D37-4D0F-B9FD-CBB4F54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9DC-1487-41B7-9976-B1F152F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00D-708D-417D-8506-FD1FCD6E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AD8-2F50-458A-9336-AEFE3A6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605-641A-40D3-AD04-9EC7FC6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4080E5-0A4F-46AC-90E0-4909FE051713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7111" t="0" r="0" b="0"/>
          <a:stretch/>
        </p:blipFill>
        <p:spPr>
          <a:xfrm>
            <a:off x="0" y="0"/>
            <a:ext cx="91425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286000"/>
            <a:ext cx="777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0" spc="-1" strike="noStrike">
                <a:solidFill>
                  <a:srgbClr val="000000"/>
                </a:solidFill>
                <a:latin typeface="Arial Black"/>
              </a:rPr>
              <a:t>Studer 928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230640"/>
            <a:ext cx="61722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Professional Analog Mixing Conso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80" y="2444760"/>
            <a:ext cx="67284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093760"/>
            <a:ext cx="7763040" cy="38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800280" y="952560"/>
            <a:ext cx="7543800" cy="1581120"/>
            <a:chOff x="800280" y="952560"/>
            <a:chExt cx="7543800" cy="1581120"/>
          </a:xfrm>
        </p:grpSpPr>
        <p:grpSp>
          <p:nvGrpSpPr>
            <p:cNvPr id="48" name=""/>
            <p:cNvGrpSpPr/>
            <p:nvPr/>
          </p:nvGrpSpPr>
          <p:grpSpPr>
            <a:xfrm>
              <a:off x="3073320" y="1504800"/>
              <a:ext cx="2502000" cy="1028880"/>
              <a:chOff x="3073320" y="1504800"/>
              <a:chExt cx="2502000" cy="1028880"/>
            </a:xfrm>
          </p:grpSpPr>
          <p:graphicFrame>
            <p:nvGraphicFramePr>
              <p:cNvPr id="49" name=""/>
              <p:cNvGraphicFramePr/>
              <p:nvPr/>
            </p:nvGraphicFramePr>
            <p:xfrm>
              <a:off x="3665520" y="1550880"/>
              <a:ext cx="1909800" cy="797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65520" y="1550880"/>
                        <a:ext cx="1909800" cy="79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1" name=""/>
              <p:cNvGraphicFramePr/>
              <p:nvPr/>
            </p:nvGraphicFramePr>
            <p:xfrm>
              <a:off x="3073320" y="1504800"/>
              <a:ext cx="674640" cy="66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73320" y="1504800"/>
                        <a:ext cx="674640" cy="66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3" name=""/>
              <p:cNvGraphicFramePr/>
              <p:nvPr/>
            </p:nvGraphicFramePr>
            <p:xfrm>
              <a:off x="3213000" y="2089080"/>
              <a:ext cx="954360" cy="444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13000" y="2089080"/>
                        <a:ext cx="95436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5" name=""/>
            <p:cNvSpPr/>
            <p:nvPr/>
          </p:nvSpPr>
          <p:spPr>
            <a:xfrm>
              <a:off x="800280" y="952560"/>
              <a:ext cx="75438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Production Console for Broadcast and  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00280" y="2457360"/>
            <a:ext cx="8191440" cy="1200240"/>
            <a:chOff x="800280" y="2457360"/>
            <a:chExt cx="8191440" cy="1200240"/>
          </a:xfrm>
        </p:grpSpPr>
        <p:graphicFrame>
          <p:nvGraphicFramePr>
            <p:cNvPr id="57" name=""/>
            <p:cNvGraphicFramePr/>
            <p:nvPr/>
          </p:nvGraphicFramePr>
          <p:xfrm>
            <a:off x="3554280" y="2952720"/>
            <a:ext cx="2846520" cy="704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54280" y="2952720"/>
                      <a:ext cx="28465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800280" y="2457360"/>
              <a:ext cx="819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OB Van for Broadcast and TV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800280" y="3848040"/>
            <a:ext cx="819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ound reinforcement for Theatre and Conc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12520" y="4510080"/>
            <a:ext cx="6213600" cy="1209600"/>
            <a:chOff x="812520" y="4510080"/>
            <a:chExt cx="6213600" cy="1209600"/>
          </a:xfrm>
        </p:grpSpPr>
        <p:sp>
          <p:nvSpPr>
            <p:cNvPr id="62" name=""/>
            <p:cNvSpPr/>
            <p:nvPr/>
          </p:nvSpPr>
          <p:spPr>
            <a:xfrm>
              <a:off x="812520" y="4510080"/>
              <a:ext cx="3167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Sporttransmiss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4162320" y="4857840"/>
            <a:ext cx="12448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62320" y="4857840"/>
                      <a:ext cx="12448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686560" y="4591080"/>
            <a:ext cx="1339560" cy="1128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86560" y="4591080"/>
                      <a:ext cx="1339560" cy="11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" name=""/>
          <p:cNvSpPr/>
          <p:nvPr/>
        </p:nvSpPr>
        <p:spPr>
          <a:xfrm>
            <a:off x="800280" y="5843520"/>
            <a:ext cx="539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imple Multichannel recor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0280" y="68544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N-1 example:sport transmiss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5480" y="1911240"/>
            <a:ext cx="7740720" cy="455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7360" y="4800600"/>
            <a:ext cx="4019760" cy="546120"/>
          </a:xfrm>
          <a:custGeom>
            <a:avLst/>
            <a:gdLst/>
            <a:ahLst/>
            <a:rect l="l" t="t" r="r" b="b"/>
            <a:pathLst>
              <a:path w="2532" h="344">
                <a:moveTo>
                  <a:pt x="2531" y="343"/>
                </a:moveTo>
                <a:lnTo>
                  <a:pt x="0" y="3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46280" y="2165400"/>
            <a:ext cx="1346040" cy="536400"/>
          </a:xfrm>
          <a:custGeom>
            <a:avLst/>
            <a:gdLst/>
            <a:ahLst/>
            <a:rect l="l" t="t" r="r" b="b"/>
            <a:pathLst>
              <a:path w="848" h="338">
                <a:moveTo>
                  <a:pt x="0" y="0"/>
                </a:moveTo>
                <a:lnTo>
                  <a:pt x="847" y="0"/>
                </a:lnTo>
                <a:lnTo>
                  <a:pt x="847" y="337"/>
                </a:lnTo>
                <a:lnTo>
                  <a:pt x="0" y="337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46280" y="2884320"/>
            <a:ext cx="1365120" cy="538200"/>
          </a:xfrm>
          <a:custGeom>
            <a:avLst/>
            <a:gdLst/>
            <a:ahLst/>
            <a:rect l="l" t="t" r="r" b="b"/>
            <a:pathLst>
              <a:path w="860" h="339">
                <a:moveTo>
                  <a:pt x="0" y="0"/>
                </a:moveTo>
                <a:lnTo>
                  <a:pt x="859" y="0"/>
                </a:lnTo>
                <a:lnTo>
                  <a:pt x="859" y="338"/>
                </a:lnTo>
                <a:lnTo>
                  <a:pt x="0" y="338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46280" y="3606840"/>
            <a:ext cx="1326960" cy="528480"/>
          </a:xfrm>
          <a:custGeom>
            <a:avLst/>
            <a:gdLst/>
            <a:ahLst/>
            <a:rect l="l" t="t" r="r" b="b"/>
            <a:pathLst>
              <a:path w="836" h="333">
                <a:moveTo>
                  <a:pt x="0" y="0"/>
                </a:moveTo>
                <a:lnTo>
                  <a:pt x="835" y="0"/>
                </a:lnTo>
                <a:lnTo>
                  <a:pt x="835" y="332"/>
                </a:lnTo>
                <a:lnTo>
                  <a:pt x="0" y="332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46280" y="4327560"/>
            <a:ext cx="1289160" cy="538200"/>
          </a:xfrm>
          <a:custGeom>
            <a:avLst/>
            <a:gdLst/>
            <a:ahLst/>
            <a:rect l="l" t="t" r="r" b="b"/>
            <a:pathLst>
              <a:path w="812" h="339">
                <a:moveTo>
                  <a:pt x="0" y="0"/>
                </a:moveTo>
                <a:lnTo>
                  <a:pt x="811" y="0"/>
                </a:lnTo>
                <a:lnTo>
                  <a:pt x="811" y="338"/>
                </a:lnTo>
                <a:lnTo>
                  <a:pt x="0" y="338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6960" y="2411280"/>
            <a:ext cx="4537080" cy="2718000"/>
          </a:xfrm>
          <a:custGeom>
            <a:avLst/>
            <a:gdLst/>
            <a:ahLst/>
            <a:rect l="l" t="t" r="r" b="b"/>
            <a:pathLst>
              <a:path w="2858" h="1712">
                <a:moveTo>
                  <a:pt x="0" y="0"/>
                </a:moveTo>
                <a:lnTo>
                  <a:pt x="2857" y="0"/>
                </a:lnTo>
                <a:lnTo>
                  <a:pt x="2857" y="17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489096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5" y="0"/>
                </a:moveTo>
                <a:lnTo>
                  <a:pt x="17" y="42"/>
                </a:lnTo>
                <a:lnTo>
                  <a:pt x="0" y="0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17880" y="3102120"/>
            <a:ext cx="4303800" cy="1874520"/>
          </a:xfrm>
          <a:custGeom>
            <a:avLst/>
            <a:gdLst/>
            <a:ahLst/>
            <a:rect l="l" t="t" r="r" b="b"/>
            <a:pathLst>
              <a:path w="2711" h="1181">
                <a:moveTo>
                  <a:pt x="0" y="0"/>
                </a:moveTo>
                <a:lnTo>
                  <a:pt x="2710" y="0"/>
                </a:lnTo>
                <a:lnTo>
                  <a:pt x="2710" y="11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89640" y="478620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5" y="0"/>
                </a:moveTo>
                <a:lnTo>
                  <a:pt x="17" y="42"/>
                </a:lnTo>
                <a:lnTo>
                  <a:pt x="0" y="0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00240" y="3838680"/>
            <a:ext cx="4068720" cy="961920"/>
          </a:xfrm>
          <a:custGeom>
            <a:avLst/>
            <a:gdLst/>
            <a:ahLst/>
            <a:rect l="l" t="t" r="r" b="b"/>
            <a:pathLst>
              <a:path w="2563" h="606">
                <a:moveTo>
                  <a:pt x="0" y="0"/>
                </a:moveTo>
                <a:lnTo>
                  <a:pt x="2562" y="0"/>
                </a:lnTo>
                <a:lnTo>
                  <a:pt x="2562" y="6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43760" y="471960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5" y="0"/>
                </a:moveTo>
                <a:lnTo>
                  <a:pt x="17" y="42"/>
                </a:lnTo>
                <a:lnTo>
                  <a:pt x="0" y="0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2960" y="4575240"/>
            <a:ext cx="3848040" cy="131760"/>
          </a:xfrm>
          <a:custGeom>
            <a:avLst/>
            <a:gdLst/>
            <a:ahLst/>
            <a:rect l="l" t="t" r="r" b="b"/>
            <a:pathLst>
              <a:path w="2424" h="83">
                <a:moveTo>
                  <a:pt x="0" y="0"/>
                </a:moveTo>
                <a:lnTo>
                  <a:pt x="2423" y="0"/>
                </a:lnTo>
                <a:lnTo>
                  <a:pt x="2423" y="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4000" y="468144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5" y="0"/>
                </a:moveTo>
                <a:lnTo>
                  <a:pt x="17" y="42"/>
                </a:lnTo>
                <a:lnTo>
                  <a:pt x="0" y="0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36640" y="2185920"/>
            <a:ext cx="123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3400" y="2905200"/>
            <a:ext cx="125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625920"/>
            <a:ext cx="127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Loca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3400" y="4351320"/>
            <a:ext cx="120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Loca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0080" y="5048280"/>
            <a:ext cx="741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0280" y="1809720"/>
            <a:ext cx="7812000" cy="4668840"/>
          </a:xfrm>
          <a:custGeom>
            <a:avLst/>
            <a:gdLst/>
            <a:ahLst/>
            <a:rect l="l" t="t" r="r" b="b"/>
            <a:pathLst>
              <a:path w="4921" h="2941">
                <a:moveTo>
                  <a:pt x="0" y="0"/>
                </a:moveTo>
                <a:lnTo>
                  <a:pt x="4920" y="0"/>
                </a:lnTo>
                <a:lnTo>
                  <a:pt x="4920" y="2940"/>
                </a:lnTo>
                <a:lnTo>
                  <a:pt x="0" y="29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4560" y="2013120"/>
            <a:ext cx="1114200" cy="4017960"/>
          </a:xfrm>
          <a:custGeom>
            <a:avLst/>
            <a:gdLst/>
            <a:ahLst/>
            <a:rect l="l" t="t" r="r" b="b"/>
            <a:pathLst>
              <a:path w="702" h="2531">
                <a:moveTo>
                  <a:pt x="0" y="0"/>
                </a:moveTo>
                <a:lnTo>
                  <a:pt x="701" y="0"/>
                </a:lnTo>
                <a:lnTo>
                  <a:pt x="701" y="2530"/>
                </a:lnTo>
                <a:lnTo>
                  <a:pt x="0" y="253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05240" y="333360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76600" y="3562200"/>
            <a:ext cx="809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79760" y="3965400"/>
          <a:ext cx="9036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3965400"/>
                    <a:ext cx="903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400640" y="2592360"/>
          <a:ext cx="839520" cy="8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0640" y="2592360"/>
                    <a:ext cx="8395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387600" y="3522600"/>
          <a:ext cx="84780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7600" y="3522600"/>
                    <a:ext cx="8478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70600" y="4705200"/>
          <a:ext cx="1952640" cy="144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70600" y="4705200"/>
                    <a:ext cx="195264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657600" y="3516480"/>
            <a:ext cx="58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969696"/>
                </a:solidFill>
                <a:latin typeface="Arial"/>
              </a:rPr>
              <a:t>OB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2480" y="5315040"/>
            <a:ext cx="1028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928 N-1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04800" y="179064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139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33680" y="2819520"/>
          <a:ext cx="1104840" cy="11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3680" y="2819520"/>
                    <a:ext cx="110484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1257120" y="5676840"/>
            <a:ext cx="31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3440" y="245736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42600" y="5581800"/>
            <a:ext cx="280044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23880" y="3828960"/>
            <a:ext cx="0" cy="1733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848040"/>
            <a:ext cx="1335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002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Rugged Frame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ighest reliability with dual powe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ighly customer adaptable due to Eurocard 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ighly flexible Meter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12 and 16 Modul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o Fans required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onsole free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60 different special module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uperb performance pric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1581120"/>
            <a:ext cx="693396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tuder’s high quality Transformer balanced Microphone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ll audio switches with semiconductors or gold plated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Low Noise High Quality VCA’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ll P &amp; G F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Limiter / compressor with optimized psycho acoustic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Lots of Jumper configuration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5840" y="858960"/>
            <a:ext cx="2133360" cy="5856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5600" y="781200"/>
            <a:ext cx="561996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Multiformat Moni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5440" y="18288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Dolby Surround produ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Two 6 channel Decoder / Encoder systems us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Monitoring possibility before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and after coding / deco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ignal path visually display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urround panning via joystic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60960" y="5257800"/>
            <a:ext cx="175428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7360" y="1028880"/>
            <a:ext cx="43452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New... </a:t>
            </a:r>
            <a:br>
              <a:rPr sz="5000"/>
            </a:b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Monitor Mix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2600" y="1085760"/>
            <a:ext cx="4403880" cy="544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95920" y="2533680"/>
            <a:ext cx="4270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for multitrack recor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2 channel and multiformat versions avai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Input meter with LED disp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4 channel monitor mixer blocks usable on mono and stereo input chann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4T15:32:38Z</dcterms:created>
  <dc:creator>Studer Informatik</dc:creator>
  <dc:description/>
  <dc:language>en-US</dc:language>
  <cp:lastModifiedBy>robis</cp:lastModifiedBy>
  <cp:lastPrinted>1998-02-18T14:26:14Z</cp:lastPrinted>
  <dcterms:modified xsi:type="dcterms:W3CDTF">2006-01-31T13:57:28Z</dcterms:modified>
  <cp:revision>57</cp:revision>
  <dc:subject/>
  <dc:title>Kein Folientitel</dc:title>
</cp:coreProperties>
</file>